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5ADB-5D80-4D60-9769-61E446E33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 Quality questions. Stro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Assessment Items Aligned to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uthoring content is easy in TurningPoint and TestingPoint, we also include with your student response system purchase QuestionPoint—a question bank of 30,000 high quality assessment items aligned to state standards sorted by grade and subject. Powered by LearnStar, these accredited content questions help teachers and administrators immediately start implementing valuable assess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100% integration with TurningPoint and TestingPoint, educators are easily able to load QuestionPoint interactive questions for formative and summative assessments to measure student performance and focus on problem areas prior to high-stakes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is provided free of charge with your purchase of a TurningPoint student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QuestionPoint content, teachers can easily incorporate content into their TurningPoint presentations from a variety of resources. Easily upload recognized content materials including ready-made questions from select McGraw Hill and Thomson textbooks. Users can also automatically load their questions from a Word document without having to completely retype the material. And in many instances, teachers can use content from other external sources and publishers by simply cutting and pa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9B0F7-D922-4966-9471-CD8D7AB4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4D81-7CE6-4CA7-A59F-4D469B92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A6BF1-6D9E-449B-8417-702A7AC9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5AE11-0DA8-4FB7-A6D3-DC50BE72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C643-FDDB-49AB-B578-749F2898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2F279-4A3B-4E81-A951-210EE856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E36E-3A69-40B9-B8D5-2C5FB5FF8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5936-5F31-4B25-A484-2510601E9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E7A49-1BCD-419B-9826-920345E23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9B16-E3F3-4163-BEA5-979364E7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B025-03F2-470F-BBE8-E1AB5CE2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17AB-E821-4117-B299-9FF0E679F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0" y="-201600"/>
            <a:ext cx="9684000" cy="72626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ADE0-66C8-4CFA-ACD0-695FA2A7865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urningtechnologies.co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0000" y="-201600"/>
            <a:ext cx="9684000" cy="7262640"/>
          </a:xfrm>
          <a:prstGeom prst="rect">
            <a:avLst/>
          </a:prstGeom>
          <a:ln w="0">
            <a:noFill/>
          </a:ln>
        </p:spPr>
      </p:pic>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Clickers Assess Student Knowledge</a:t>
            </a: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28954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nna Karkoska</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vember 17, 200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ecking Chart</a:t>
            </a:r>
            <a:endParaRPr b="0" lang="en-US" sz="4400" spc="-1" strike="noStrike">
              <a:solidFill>
                <a:srgbClr val="000000"/>
              </a:solidFill>
              <a:latin typeface="Comic Sans MS"/>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ge 2 in packe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as much as possi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a Student Response System?</a:t>
            </a:r>
            <a:endParaRPr b="0" lang="en-US" sz="4400" spc="-1" strike="noStrike">
              <a:solidFill>
                <a:srgbClr val="000000"/>
              </a:solidFill>
              <a:latin typeface="Comic Sans MS"/>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e students in active learning</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s student participation</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tudents with immediate feedback</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teachers to customize instruction based on student responses</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s 21st Century Teaching and Learn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rning Point</a:t>
            </a:r>
            <a:endParaRPr b="0" lang="en-US" sz="4400" spc="-1" strike="noStrike">
              <a:solidFill>
                <a:srgbClr val="000000"/>
              </a:solidFill>
              <a:latin typeface="Comic Sans MS"/>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s seamlessly with Microsoft Power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e uni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ion 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rPr>
              <a:t>Web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Use SRS</a:t>
            </a:r>
            <a:endParaRPr b="0" lang="en-US" sz="4400" spc="-1" strike="noStrike">
              <a:solidFill>
                <a:srgbClr val="000000"/>
              </a:solidFill>
              <a:latin typeface="Comic Sans MS"/>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Brea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SA Practic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ction="ppaction://hlinksldjump"/>
              </a:rPr>
              <a:t>Formative Assess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tive Assess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mative Assessments</a:t>
            </a:r>
            <a:endParaRPr b="0" lang="en-US" sz="4400" spc="-1" strike="noStrike">
              <a:solidFill>
                <a:srgbClr val="000000"/>
              </a:solidFill>
              <a:latin typeface="Comic Sans MS"/>
            </a:endParaRPr>
          </a:p>
        </p:txBody>
      </p:sp>
      <p:sp>
        <p:nvSpPr>
          <p:cNvPr id="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essentials for planning</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formal or informal</a:t>
            </a:r>
            <a:endParaRPr b="0" lang="en-US" sz="24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s, diagnostic and placement evaluations, open ended</a:t>
            </a:r>
            <a:endParaRPr b="0" lang="en-US" sz="20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nce/Exit tickets, homework, journals, road signs</a:t>
            </a:r>
            <a:endParaRPr b="0" lang="en-US" sz="20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en before, during, and after i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an of Attack</a:t>
            </a:r>
            <a:endParaRPr b="0" lang="en-US" sz="4400" spc="-1" strike="noStrike">
              <a:solidFill>
                <a:srgbClr val="000000"/>
              </a:solidFill>
              <a:latin typeface="Comic Sans MS"/>
            </a:endParaRPr>
          </a:p>
        </p:txBody>
      </p:sp>
      <p:sp>
        <p:nvSpPr>
          <p:cNvPr id="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er Triv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a Turning Point Pres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Poi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ing</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ing Collected Dat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Makes Perman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2:54:09Z</dcterms:created>
  <dc:creator>Hempfield SD</dc:creator>
  <dc:description/>
  <dc:language>en-US</dc:language>
  <cp:lastModifiedBy>Hempfield High School</cp:lastModifiedBy>
  <dcterms:modified xsi:type="dcterms:W3CDTF">2009-11-17T13:27:46Z</dcterms:modified>
  <cp:revision>17</cp:revision>
  <dc:subject/>
  <dc:title>Formative Assessment Using Technology</dc:title>
</cp:coreProperties>
</file>